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9345C-0683-48C0-AD83-2F174039F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F3BCE-9CAD-4B9C-BFB6-C9A4637C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7D820-2AE8-4433-9B20-A21C43339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FBE85-970B-4019-910C-02D31CD94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27AD3-48B0-463E-8065-0A1816DCD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973F6-8D4F-4730-B156-88CB23B4E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124D3-465B-47AE-988F-D220E4D39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02D94-EF2E-40AB-9A66-3841DAFB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1B862-7729-433D-A294-BE6EF92C6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8F7CF-3FED-4029-A4FF-E25F6F821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9BAED-5096-4241-810C-D67726BD2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DD96B-25A3-40A0-8D28-532660EC7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D56C2-3A6D-4BD0-BEAF-EBA66A539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EC70C-0A61-4560-8488-9D4F0304A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82F34-22C0-4604-A630-376D0859F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910A9-CC5E-4B47-8FF3-8CB665737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33D20-A509-4E31-85CB-492B1338E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5841-3C16-4888-B7A5-BAEE92D8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D6F5-99A4-4A9B-BBEC-5DFB2673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EDDB4-14B7-49A9-96C8-3BEFF29D2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3475-5F92-4466-891D-E5A1E42E5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66C3-497B-4745-A9A8-BD53D34C9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0761-DCA7-42B1-A9FD-0BE851ED4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53DE-249E-4DEC-B053-D47C7C7A8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1B12-498D-4E09-B88D-1E59A4262FC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0AF4-AC0A-4CB0-A6F8-A8607B7A4B9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ortelli per l’innovazione e il trasferimento tecnologico - Proposte di iniziative per il Fondo di perequazione 2005</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organizzazione di seminari tipo sul tema della valorizzazione dei beni immateriali oltre alle forme tutelate dal diritto - brevetti e marchi - anche altri elementi quali know-how aziendale, nuove  idee, capacità di innovare, accordi e contratti di sfruttamento delle tecnologie, con il mondo della ricerca, ec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 organizzazione di 1 focus group con le aziende sul tema "elementi che compongono l'IPR e interessi delle aziende": previsto il coinvolgimento  di max 20 persone, il coinvolgimento di 1 moderatore, 2 riunioni e la redazione di una pubblic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Eventi per le imprese per l’osservazione dei principali mutamenti e bisogni della società e dell’uomo moderno con lo scopo di individuare e prevedere i cosiddetti Macrotrend e  Microtrend, sulla base dei quali le funzioni di ricerca e sviluppo delle imprese  possono impostare la creazione di prodotti e servizi innovativi e con un maggior valore aggiunto.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ervizio esperto risponde: quesiti relativi a marchi e brevetti a centri di competenza qualificati, i quali si impegnano a darne risposta, entro 3 giorni lavorativi dal ricevimento degli stessi. Le richieste sono inoltrate dagli sportelli tecnologici</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re azioni</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Nuove Imprese Innovative e Brevetti: fasi del ciclo di vita di un’impresa, attori e strumenti a supporto della nascita di nuove imprese innovative; il ruolo della Proprietà intellettuale e la nascita di nuove imprese innovativ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Energia: il quadro delle problematiche energetiche in Italia e nella UE, la normativa di riferimento sul risparmio energetico, la descrizione degli attori dello scenario energetic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le finalità del progetto regionale sportelli tecnologici e gli strumenti utilizzati per favorire il raccordo tra impresa, ricerca e trasferimento tecnologicoCampagne stampa, eventi di presentazione dei risultati dell’osservato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ccordi con altri soggetti per lo sviluppo dei servizi a sostegno dell’innov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6666"/>
                </a:solidFill>
                <a:latin typeface="Arial"/>
              </a:rPr>
              <a:t>Azioni delineate dal progetto approvato</a:t>
            </a:r>
            <a:r>
              <a:rPr b="1" lang="en-US" sz="3300" spc="-1" strike="noStrike">
                <a:solidFill>
                  <a:srgbClr val="006666"/>
                </a:solidFill>
                <a:latin typeface="Arial"/>
              </a:rPr>
              <a:t>: </a:t>
            </a:r>
            <a:br>
              <a:rPr sz="3300"/>
            </a:br>
            <a:br>
              <a:rPr sz="3300"/>
            </a:br>
            <a:endParaRPr b="1" lang="en-US" sz="33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1</a:t>
            </a:r>
            <a:r>
              <a:rPr b="0" lang="it-IT" sz="1400" spc="-1" strike="noStrike">
                <a:solidFill>
                  <a:srgbClr val="003366"/>
                </a:solidFill>
                <a:latin typeface="Arial"/>
              </a:rPr>
              <a:t>	</a:t>
            </a:r>
            <a:r>
              <a:rPr b="0" lang="it-IT" sz="1400" spc="-1" strike="noStrike">
                <a:solidFill>
                  <a:srgbClr val="003366"/>
                </a:solidFill>
                <a:latin typeface="Arial"/>
              </a:rPr>
              <a:t>Sviluppare l’Osservatorio sui fabbisogni tecnologici e la domanda d’innovazione delle imprese, per raccogliere a fini conoscitivi le statistiche, le banche dati e gli studi sulle dinamiche economiche e tecnologiche presenti sul proprio territorio, anche attraverso la costruzione di opportuni “indicatori tecnologici” su scala provinciale e/o regionale, individuare i fabbisogni tecnologici rilevati direttamente presso le imprese del territorio, implementare repertori di buone pratiche di imprese e repertori sui centri per l’innovazione (Università, EPR, esperti, ecc). (vd. punto 3.1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2     consolidare il sistema informativo per la gestione dei fabbisogni tecnologici delle imprese, alimentato dalle Camere di commercio;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3</a:t>
            </a:r>
            <a:r>
              <a:rPr b="0" lang="it-IT" sz="1400" spc="-1" strike="noStrike">
                <a:solidFill>
                  <a:srgbClr val="003366"/>
                </a:solidFill>
                <a:latin typeface="Arial"/>
              </a:rPr>
              <a:t>	</a:t>
            </a:r>
            <a:r>
              <a:rPr b="0" lang="it-IT" sz="1400" spc="-1" strike="noStrike">
                <a:solidFill>
                  <a:srgbClr val="003366"/>
                </a:solidFill>
                <a:latin typeface="Arial"/>
              </a:rPr>
              <a:t>sviluppare i servizi camerali per l’informazione e l’orientamento sulle novità brevettuali, le tendenze di sviluppo tecnologico in atto e i principali attori dell’innovazione, la tutela dei brevetti, dei modelli e del design industriale, l’efficienza energetica e le energie rinnovabili (vd punto 3.4 e 3.5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4</a:t>
            </a:r>
            <a:r>
              <a:rPr b="0" lang="it-IT" sz="1400" spc="-1" strike="noStrike">
                <a:solidFill>
                  <a:srgbClr val="003366"/>
                </a:solidFill>
                <a:latin typeface="Arial"/>
              </a:rPr>
              <a:t>	</a:t>
            </a:r>
            <a:r>
              <a:rPr b="0" lang="it-IT" sz="1400" spc="-1" strike="noStrike">
                <a:solidFill>
                  <a:srgbClr val="003366"/>
                </a:solidFill>
                <a:latin typeface="Arial"/>
              </a:rPr>
              <a:t>potenziare le reti per l’innovazione e il trasferimento tecnologico, imperniate sulla collaborazione con Aster, Università, centri di ricerca, enti deputati a raccogliere, classificare e diffondere le informazioni dal mondo accademico per renderle fruibili alle impres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5</a:t>
            </a:r>
            <a:r>
              <a:rPr b="0" lang="it-IT" sz="1400" spc="-1" strike="noStrike">
                <a:solidFill>
                  <a:srgbClr val="003366"/>
                </a:solidFill>
                <a:latin typeface="Arial"/>
              </a:rPr>
              <a:t>	</a:t>
            </a:r>
            <a:r>
              <a:rPr b="0" lang="it-IT" sz="1400" spc="-1" strike="noStrike">
                <a:solidFill>
                  <a:srgbClr val="003366"/>
                </a:solidFill>
                <a:latin typeface="Arial"/>
              </a:rPr>
              <a:t>promuovere l’attività degli sportelli per l’innovazione tecnologica delle CCIA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1: strumenti esistent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servatorio innovazione: </a:t>
            </a:r>
            <a:r>
              <a:rPr b="0" lang="en-US" sz="2000" spc="-1" strike="noStrike">
                <a:solidFill>
                  <a:srgbClr val="003366"/>
                </a:solidFill>
                <a:latin typeface="Arial"/>
              </a:rPr>
              <a:t>indagine permanente sull’innovazione, relazioni effettuate dal sistema Camerale o da altre strutture di competenze, Analisi ed elaborazioni effettuate dagli uffici studi delle Camere dell'Emilia Romagna in termini di innovazione, sulla base di indici già predisposti dal sistem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nte innovazione</a:t>
            </a:r>
            <a:r>
              <a:rPr b="0" lang="en-US" sz="2000" spc="-1" strike="noStrike">
                <a:solidFill>
                  <a:srgbClr val="003366"/>
                </a:solidFill>
                <a:latin typeface="Arial"/>
              </a:rPr>
              <a:t>: Piattaforma per individuare i centri di competenza locali pubblici e privati che effettuano attività di ricerca, progettazione, e servizi avanzati per l’impresa e per la raccolta dei bisogni di innovazione delle imprese del territor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ipotesi di nuove attività </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eck up (interventi ad hoc presso singole impre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biettivo: far emergere le esigenze/problematiche delle imprese e coinvolgimento di gruppi di ricerca della rete alta tecnolog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asi: visita aziendale, redazione report di analisi dei gruppi di ricerca da coinvolgere, visita aziendale con gruppo di ricerca – L’individuazione delle imprese spetta alle CCIAA</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 </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3: Focus group su un tema tecnico da concordare (es: La ricerca  per le imprese del settore macchine automatiche).</a:t>
            </a:r>
            <a:br>
              <a:rPr sz="2000"/>
            </a:br>
            <a:r>
              <a:rPr b="0" lang="it-IT" sz="2000" spc="-1" strike="noStrike">
                <a:solidFill>
                  <a:srgbClr val="003366"/>
                </a:solidFill>
                <a:latin typeface="Arial"/>
              </a:rPr>
              <a:t>Che cosa sono: gruppi di lavoro misti imprese e ricercatori interessati  dal tema</a:t>
            </a:r>
            <a:br>
              <a:rPr sz="2000"/>
            </a:br>
            <a:r>
              <a:rPr b="0" lang="it-IT" sz="2000" spc="-1" strike="noStrike">
                <a:solidFill>
                  <a:srgbClr val="003366"/>
                </a:solidFill>
                <a:latin typeface="Arial"/>
              </a:rPr>
              <a:t>Obiettivo: far emergere le esigenze del settore e individuare tematiche  di ricerca industriale a medio termine che possano essere oggetto di  programmazione strategica per le politiche del territorio regionale.</a:t>
            </a:r>
            <a:br>
              <a:rPr sz="2000"/>
            </a:br>
            <a:r>
              <a:rPr b="0" lang="it-IT" sz="2000" spc="-1" strike="noStrike">
                <a:solidFill>
                  <a:srgbClr val="003366"/>
                </a:solidFill>
                <a:latin typeface="Arial"/>
              </a:rPr>
              <a:t>Come è organizzato: coinvolgimento di un moderatore (esperto di settore)  che coordinerà i lavori e si occuperà della redazione del dossier  finale; n. incontri previsto: 2; lavoro di back office finalizzato alla pubblicazione del dossier.</a:t>
            </a:r>
            <a:br>
              <a:rPr sz="2000"/>
            </a:br>
            <a:r>
              <a:rPr b="0" lang="it-IT" sz="2000" spc="-1" strike="noStrike">
                <a:solidFill>
                  <a:srgbClr val="003366"/>
                </a:solidFill>
                <a:latin typeface="Arial"/>
              </a:rPr>
              <a:t>max persone da coinvolgere: 20 tra referenti istituzionali, ricercatori e imprese.</a:t>
            </a:r>
            <a:br>
              <a:rPr sz="2000"/>
            </a:br>
            <a:r>
              <a:rPr b="0" lang="it-IT"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raccolta ed analisi multivariata delle prestazioni degli investimenti immateriali delle</a:t>
            </a:r>
            <a:r>
              <a:rPr b="0" lang="it-IT" sz="1800" spc="-1" strike="noStrike">
                <a:solidFill>
                  <a:srgbClr val="003366"/>
                </a:solidFill>
                <a:latin typeface="Arial"/>
              </a:rPr>
              <a:t> PM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La procedura, web based, è composta da 3 modul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questionario on-line per inserire i dati di bilanci sugli investimenti immateriali e sui ricavi corrisponden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analisi statistica multivariata alle componenti principali per evidenziare le diverse performance degli investimenti immateriali, quali sito web, conoscenza lingue straniere, marketing on-line, informatizzazione, ec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reporting che riporta grafici e medie suddivisi per provincia, basato sui dati memorizzati nella banca da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servizio è riservato  (login, password) ai soli imprenditori che sono disposti a fornire i dati del questionario dell’osservatorio innovazion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2 – strumenti esistenti</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p innovazione: strumento per gestire  in forma riservata il bisogno manifestato dalle imprese al fine di individuare azioni volte al soddisfacimento del bisogno e per analisi aggregate finalizzate alla progettazione di iniziative (incontri tecnici, seminari, ricerche, progetti di sviluppo ecc.) rispondenti ai bisogni territoria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3: strumenti esistenti</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iattaforma degli sportelli tecnologici delle CCIAA dell’Emilia-Romagn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ervizio patnews sull’informazione brevettu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anca dati Crit, D.B., dotato di un’interfaccia/motore di ricerca intelligente, contenente un ampio numero di approfondimenti (scouting) tecnologici per la prima informazione di orientamento per i settor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1)</a:t>
            </a:r>
            <a:r>
              <a:rPr b="0" lang="it-IT" sz="2000" spc="-1" strike="noStrike">
                <a:solidFill>
                  <a:srgbClr val="003366"/>
                </a:solidFill>
                <a:latin typeface="Arial"/>
              </a:rPr>
              <a:t>	</a:t>
            </a:r>
            <a:r>
              <a:rPr b="0" lang="it-IT" sz="2000" spc="-1" strike="noStrike">
                <a:solidFill>
                  <a:srgbClr val="003366"/>
                </a:solidFill>
                <a:latin typeface="Arial"/>
              </a:rPr>
              <a:t>Elettronica/Automazione/Sensoristic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2)</a:t>
            </a:r>
            <a:r>
              <a:rPr b="0" lang="it-IT" sz="2000" spc="-1" strike="noStrike">
                <a:solidFill>
                  <a:srgbClr val="003366"/>
                </a:solidFill>
                <a:latin typeface="Arial"/>
              </a:rPr>
              <a:t>	</a:t>
            </a:r>
            <a:r>
              <a:rPr b="0" lang="it-IT" sz="2000" spc="-1" strike="noStrike">
                <a:solidFill>
                  <a:srgbClr val="003366"/>
                </a:solidFill>
                <a:latin typeface="Arial"/>
              </a:rPr>
              <a:t>Materiali/Trattamen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3)</a:t>
            </a:r>
            <a:r>
              <a:rPr b="0" lang="it-IT" sz="2000" spc="-1" strike="noStrike">
                <a:solidFill>
                  <a:srgbClr val="003366"/>
                </a:solidFill>
                <a:latin typeface="Arial"/>
              </a:rPr>
              <a:t>	</a:t>
            </a:r>
            <a:r>
              <a:rPr b="0" lang="it-IT" sz="2000" spc="-1" strike="noStrike">
                <a:solidFill>
                  <a:srgbClr val="003366"/>
                </a:solidFill>
                <a:latin typeface="Arial"/>
              </a:rPr>
              <a:t>ICT industri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4)</a:t>
            </a:r>
            <a:r>
              <a:rPr b="0" lang="it-IT" sz="2000" spc="-1" strike="noStrike">
                <a:solidFill>
                  <a:srgbClr val="003366"/>
                </a:solidFill>
                <a:latin typeface="Arial"/>
              </a:rPr>
              <a:t>	</a:t>
            </a:r>
            <a:r>
              <a:rPr b="0" lang="it-IT" sz="2000" spc="-1" strike="noStrike">
                <a:solidFill>
                  <a:srgbClr val="003366"/>
                </a:solidFill>
                <a:latin typeface="Arial"/>
              </a:rPr>
              <a:t>Energia e Ambi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udit energetici</a:t>
            </a:r>
            <a:r>
              <a:rPr b="0" lang="it-IT" sz="1800" spc="-1" strike="noStrike">
                <a:solidFill>
                  <a:srgbClr val="003366"/>
                </a:solidFill>
                <a:latin typeface="Arial"/>
              </a:rPr>
              <a:t> per le imprese assistiti da esperti + REPORT FINALE con indicazioni generali di intervento, rivolti a imprese  operanti in ambiti produttivi che saranno individuati da ciascuna Camera di Commercio sulla base di criteri oggettivi, quali ad esempio il fabbisogno energetico, l’impatto sull’ambiente, le ricadute economiche della ristrutturazione energetic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Strumento web di calcolo personalizzato della produttività energetica di un sistema di energia rinnovabile:</a:t>
            </a:r>
            <a:r>
              <a:rPr b="0" lang="it-IT" sz="1800" spc="-1" strike="noStrike">
                <a:solidFill>
                  <a:srgbClr val="003366"/>
                </a:solidFill>
                <a:latin typeface="Arial"/>
              </a:rPr>
              <a:t> permette di localizzare e personalizzare la stima del ritorno dell’investimento in energia rinnovabil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Ciclo di seminari / incontri formativi rivolti agli operatori camerali sui temi del risparmio energetico</a:t>
            </a:r>
            <a:r>
              <a:rPr b="0" lang="it-IT" sz="1800" spc="-1" strike="noStrike">
                <a:solidFill>
                  <a:srgbClr val="003366"/>
                </a:solidFill>
                <a:latin typeface="Arial"/>
              </a:rPr>
              <a:t>, con tema: opportunità per migliorare l'efficienza energetica delle imprese di un settore oppure per poter utilizzare le fonti energetiche rinnovabili ad integrazione dell’energia proveniente dalla rete naziona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15:35Z</dcterms:created>
  <dc:creator>lenzi</dc:creator>
  <dc:description/>
  <dc:language>en-US</dc:language>
  <cp:lastModifiedBy>lenzi</cp:lastModifiedBy>
  <dcterms:modified xsi:type="dcterms:W3CDTF">2008-01-31T11:52:26Z</dcterms:modified>
  <cp:revision>11</cp:revision>
  <dc:subject/>
  <dc:title>Diapositiva 1</dc:title>
</cp:coreProperties>
</file>