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9353-5EED-4CC0-82F7-56F0368795E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asi dettagliate per ricercare e inserire i centri di competen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messa: Il sito è in fase di restailing, quindi la grafica sarà sicuramente diversa da come le slides la mostrano. La procedura però rimane invari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volta validato il centro potrà essere cercato mediante motore di ricerca nella home page del si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informazioni inserite riguardanti il centro verranno visualizzate in questa mani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volta creati l’utente camerale contatterà il centro per segnalarli Username e Pas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ttare via telefonica o visitando i relativi siti internet  i soggetti sopra elencati e reperire i centri della propria provinc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colti gli elenchi si invia a tutti una lettera di presentazione e una scheda di adesione, passata una settimana sarebbe opportuno un sollecito via telefonica, dove facendo riferimento alla lettera che dovrebbe essere pervenuta si invita a partecipare al progetto (se possibile farsi passare un referente del centro/laboratorio/impres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utente camerale inserisce Login e Password, si arriva così all’amministrazione dei centri della provincia. Per facilitare le operazioni il login e la password sono gli stessi forniti per accedere all’area riservata dei questionari (sempre se l’utente camerale non è cambiato). Chiedere confer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ettimana prossima sarete avvistati tramite mail dell’avvenuta autorizzazione ad inserire i cent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volta loggati la pagina si presenterà così, a questo punto per inserire un centro di competenza nuovo bisogna scegliere dal menù laterale: la dinamica a cui appartiene (ECONOMICA OPPURE TECNOLOGICA*). Per completezza visioniamo quella Tecnologica, poiché i centri appartenenti a  questa dinamica hanno maggiori autorizzazioni: possono inserire pagine web (allegati su ricerche effettuate, promuovere event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* Si ricorda che la Dinamica Tecnologica racchiude i centri provenienti dal mondo universitario e della ricer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questa schermata sono visualizzati tutti centri della DT inseriti, in fonda alla pagina c’è un pulsante per inserire i nuovi cent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simboli vicino al centro stanno ad indicare l’avvenuta validazione (check di colore verde) e la possibilità di fare modifiche per l’utente camerale (la lente d’ingrandiment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questa schermata si possono inserire i dati riguardanti il centro (quelli della scheda di adesione), quindi anagrafica, attività, lo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 campo note l’utente camerale inserirà il referente tecnico dl centro, appunti sul centro, commen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a campo note è visualizzabile esclusivamente dal personale came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volta inseriti i dati anagrafici, la camera può scegliere di validarlo o meno, se validato il centro sarà pubblicato e visionabile nella sezione on line del si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“validazione scheda” riguarda la scheda informativa aggiuntiva, può essere validata in un secondo momento, qualora vi fossero ulteriori info sul centro (lo stesso referente del centro può validarl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770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6920" y="4052160"/>
            <a:ext cx="770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37602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400" y="1268280"/>
            <a:ext cx="37602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6920" y="4052160"/>
            <a:ext cx="37602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400" y="4052160"/>
            <a:ext cx="37602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24811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2600" y="1268280"/>
            <a:ext cx="24811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7920" y="1268280"/>
            <a:ext cx="24811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6920" y="4052160"/>
            <a:ext cx="24811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2600" y="4052160"/>
            <a:ext cx="24811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7920" y="4052160"/>
            <a:ext cx="24811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6920" y="1268280"/>
            <a:ext cx="770580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7705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37602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400" y="1268280"/>
            <a:ext cx="37602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23640" y="259920"/>
            <a:ext cx="7669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37602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400" y="1268280"/>
            <a:ext cx="37602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6920" y="4052160"/>
            <a:ext cx="37602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37602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400" y="1268280"/>
            <a:ext cx="37602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400" y="4052160"/>
            <a:ext cx="37602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37602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400" y="1268280"/>
            <a:ext cx="37602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6920" y="4052160"/>
            <a:ext cx="770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5040360" cy="252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86920" y="1268280"/>
            <a:ext cx="7705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18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5445000"/>
            <a:ext cx="865080" cy="1152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971640" y="0"/>
            <a:ext cx="0" cy="6858000"/>
          </a:xfrm>
          <a:prstGeom prst="line">
            <a:avLst/>
          </a:prstGeom>
          <a:ln w="25560">
            <a:solidFill>
              <a:srgbClr val="808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221040" y="182880"/>
            <a:ext cx="45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2053440" y="263916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Rete dei centri di competenza della regione Emilia-Roma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6619680" cy="1125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1° STEP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cerca centri di competenza e conoscen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Visualizzazione pubblica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7834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e3581"/>
                </a:solidFill>
                <a:latin typeface="Tahoma"/>
              </a:rPr>
              <a:t>Centro di Competenza (sez pubblica)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47600" y="1247760"/>
            <a:ext cx="80964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Ultima operazione 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5640" y="2997360"/>
            <a:ext cx="7705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volta inseriti i centri inviare a Cise la scheda di adesione, il quale creerà Username e Password per il cen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23640" y="253800"/>
            <a:ext cx="7669080" cy="850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6120" rIns="9612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6920" y="357300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Metodi di ricerca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7705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tt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à loc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di ricerca loc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ro impr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zione di categ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ca dati del MI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2° STEP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7705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volta raccolti gli elenchi dei Centri/laboratori/Imprese del territorio, verrà spedita loro una lettera di presentazione del progetto e una scheda di adesione da compilare. (vedi pd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nella scheda di adesione deve essere indicato un referente che gestirà l’amministrazione on-line del cen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Inserimento dei centri nella piattaforma 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7705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are sulla homep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ww.rer.camcom.it/innov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3640" y="253800"/>
            <a:ext cx="7669080" cy="850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6120" rIns="9612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224000" y="260280"/>
            <a:ext cx="766908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e3581"/>
                </a:solidFill>
                <a:latin typeface="Tahoma"/>
              </a:rPr>
              <a:t>Home progetto e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3213000"/>
            <a:ext cx="360036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e3581"/>
                </a:solidFill>
                <a:latin typeface="Tahoma"/>
              </a:rPr>
              <a:t>Per effettuare il logi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e358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e3581"/>
                </a:solidFill>
                <a:latin typeface="Tahoma"/>
              </a:rPr>
              <a:t>Accedere ad una pagina della se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e358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e358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e3581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e3581"/>
                </a:solidFill>
                <a:latin typeface="Tahoma"/>
              </a:rPr>
              <a:t>Digitare login e pass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1129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Amministrazione 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7488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Dinamica tecnologica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7705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7642440" cy="5616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7280" y="6165720"/>
            <a:ext cx="1728720" cy="503280"/>
          </a:xfrm>
          <a:prstGeom prst="ellipse">
            <a:avLst/>
          </a:pr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340000" y="6381720"/>
            <a:ext cx="22392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-1332000" y="5661000"/>
            <a:ext cx="360036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Inserimento centro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8172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23640" y="259920"/>
            <a:ext cx="7669080" cy="838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3e35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581"/>
                </a:solidFill>
                <a:latin typeface="Tahoma"/>
              </a:rPr>
              <a:t>Validazione</a:t>
            </a:r>
            <a:endParaRPr b="1" lang="en-US" sz="2800" spc="-1" strike="noStrike">
              <a:solidFill>
                <a:srgbClr val="3e3581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8101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8:29:05Z</dcterms:created>
  <dc:creator>epattuelli</dc:creator>
  <dc:description/>
  <dc:language>en-US</dc:language>
  <cp:lastModifiedBy>epattuelli</cp:lastModifiedBy>
  <dcterms:modified xsi:type="dcterms:W3CDTF">2007-02-06T17:49:39Z</dcterms:modified>
  <cp:revision>5</cp:revision>
  <dc:subject/>
  <dc:title>1° STEP</dc:title>
</cp:coreProperties>
</file>