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6261-B062-4BA0-A9F8-52B86B5B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6A1-56FA-47B5-87CC-E5EF9339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551-845D-4095-82C6-08CEFB94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ECF-430E-4D7B-9983-8550A9D1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BC7F-83BF-4756-8BE3-B13CB0AF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BEC4-341A-4336-B2A7-58308149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E33F-A99E-4474-9878-7538D43D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86C1-93CC-4ECF-BCE7-633A94B9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8F7C-84F8-44E8-8F34-5A7DB914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E7B3-3993-47B2-808B-4A709309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95FD-B8F4-47A2-AEC1-1DB0A8B9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CE0-9D48-4BF2-9137-2BCB2BE0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57BE-4929-4864-82C9-2911542E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E751-35B7-4988-AB64-E3A5FC3F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47F2-7109-416C-9C16-949486F2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1D68-148A-4524-897C-A70B97D0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DF93-AE03-4CDE-802E-05709DAC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136-2916-4823-ADEF-330D0945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B7F-F9C3-477B-BDE2-4203ACEF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FE3-7E61-4E70-A332-477DB446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823C-0AB0-48C1-B23B-0C024A58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BD7-5EDD-4032-9E75-5CACA18C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9FC-804B-43B1-800E-7020F88C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D3B-D553-4092-B54C-05437A6E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258920" y="6248520"/>
            <a:ext cx="3309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DC36-769D-4F35-AA91-4B6F414037A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520"/>
            <a:ext cx="4078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1182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6FE7-5CB3-4FC6-A9A4-0ED34CB13F7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Consolidamento dei servizi camerali per l’alternanza scuola-lavoro e l’orientamento al mercato occupazionale e all’imprenditorialità  (7 CdC)– Fondo di perequazione 2005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C895-9253-46F1-A6AF-316F0F2081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student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2349360"/>
          <a:ext cx="6551640" cy="41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349360"/>
                    <a:ext cx="6551640" cy="41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A3A-F350-4B76-BEB6-71812A54F1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scuo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79640" y="2492280"/>
          <a:ext cx="568800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492280"/>
                    <a:ext cx="56880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BC7-3145-4FBC-A9D0-8611398C9F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iettiv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BIETTIVO GENERA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otenziare il ruolo delle camere di commercio a supporto d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accordo tra il sistema produttivo e quello dell’istruzione e formazione, quale fattore strategico per lo sviluppo e la competitività dei sistemi produttivi e dell'innovazione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BIETTIVI DEL PROGET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) collaborazione interistituzionale tra sistema camerale, Uffic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colastico regionale, Uffici scolastici provinciali, Regione e Province, nell’ottica di mettere a sistema le risorse disponibili e le azioni intraprese da ciascun attore per il raccordo tr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rmazione e mondo del lavoro e l’orientamento nel mercato occupazional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oggetto per sostenere le iniziative per il raccordo tra formazione e mondo del lavoro e l’orientamento nel mercato occupazional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) supporto ai progetti di alternanza scuola-lavor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A239-64F1-4A17-BFF5-2DB5338F93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collaborazione interistituzionale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Risultati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bando regionale USR-Unioncamere Emilia-Romagna per la selezione dei progetti di alternanza scuola-lavoro-  315 progetti individuati (di cui 16 direttamente finanziati dal sistema camerale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operazione fra Uffici scolastici provinciali, Province e Camere di commercio per la selezione dei progetti e partecipazione congiunta dei funzionari delle 3 tipologie d’istituzioni ai corsi di formazione per i tutor, organizzati da USR e Unioncamere Emilia-Romagna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tocollo Unioncamere E.R. con la RER e l’USR; tavoli provinciali sull’alternanza scuola-lavoro di Bologna e Rimi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215-FC98-4992-B047-A8BD9B560F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i progetti di alternanza scuola-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Risultati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 progetti finanziati dal sistema camerale hanno coinvolto 307 aziende e 402 student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inque corsi di formazione per   tutor scolastici e aziendali per cinque gruppi di province (di cui due finanziati da Unioncamere, che hanno coinvolto 106 partecipanti su 225 complessiv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monitoraggio dei progetti di alternanza scuola-lavoro finanziati sia dal sistema camerale che dai fondi del Ministero dell’Istruzione. Raccolti per le annualità considerate (2006-07 e 2007-08) rispettivamente 1601 e 2681 questionari di tutor, studenti e azien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sistema informativo sui tirocini P.O.L.A.R.I.S.: nell’anno scolastico 2007-08 sono stati inserite circa 7300 schede relative a studenti, enti formativi, aziende, proposte di tirocinio, tirocini attivati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4C77-1E41-4CFA-85A3-450249664D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i progetti di alternanza scuola-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5. 6000 pubblicazioni sui fabbisogni formativi e professionali emergenti dai dati Excelsior e le risultanze dell’analisi delle esperienze sulla terza annualità dei progetti di alternan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6. incontri con scuole, istituzioni che hanno registrato la partecipazione di circa 550 person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7. 14 incontri rivolti agli studen</a:t>
            </a:r>
            <a:fld id="{A655755C-942C-4163-BF90-5029F58431FB}" type="slidenum">
              <a:rPr b="0" lang="it-IT" sz="2400" spc="-1" strike="noStrike">
                <a:solidFill>
                  <a:srgbClr val="003366"/>
                </a:solidFill>
                <a:latin typeface="Arial"/>
              </a:rPr>
              <a:t>5</a:t>
            </a:fld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ti sull’informazione sui fabbisogni formativi, sull’auto-imprenditorialità e i servizi camerali per le imprese, a cui hanno partecipato 540 giovani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1D0-B558-44F8-82CA-C72D79E7C6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azien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276640"/>
          <a:ext cx="770580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770580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330A-91EF-4762-A7BA-64CA4E0EEC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azien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26920" y="2349360"/>
          <a:ext cx="7705800" cy="37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7705800" cy="37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935-9F40-4E73-A80C-99934098B0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azien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50920" y="2924280"/>
          <a:ext cx="469584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924280"/>
                    <a:ext cx="469584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849-1D37-4E16-9719-830711CC06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student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92360" y="2349360"/>
          <a:ext cx="626436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349360"/>
                    <a:ext cx="626436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F91C-923E-4CAF-8891-D106912B83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0:13:59Z</dcterms:created>
  <dc:creator>lenzi</dc:creator>
  <dc:description/>
  <dc:language>en-US</dc:language>
  <cp:lastModifiedBy>lenzi</cp:lastModifiedBy>
  <dcterms:modified xsi:type="dcterms:W3CDTF">2009-07-02T10:57:37Z</dcterms:modified>
  <cp:revision>8</cp:revision>
  <dc:subject/>
  <dc:title>Laboratori territoriali per raccordo domanda offerta di formazione e lavoro – Fondo di perequazione 2006</dc:title>
</cp:coreProperties>
</file>