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9DCC-CFC1-44ED-BF2E-CD786FD5D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B3CE-FBCE-47E8-814D-8E0AE843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BAE7-D2FB-4B3B-8D7B-231B85873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2314-A337-4C3C-8F7A-234860EF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72A3-9BF3-4A80-9BEE-8084AC9EF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BD76-D1D7-4551-BD76-399D400E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0892-2BBB-46A9-8983-FAEA098D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DAD8-895F-4C94-BB62-BF02868A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BA45-CE17-48D7-89C4-FE46EE40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E60A-ABEB-4D08-B594-C1EC61E6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5DDA-7741-4CF6-8804-6C84B84A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7A6D-38C2-4A72-A526-3F0303E6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8604-ADA4-470D-B7B8-46D40614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B43E-3280-4035-875C-98D9ED8E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D25E-09A4-4A78-B730-C0781D1A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AA27-6F99-4EBC-87D4-C8E42688E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7F33-E6BD-4250-BD8D-120309AD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7FE5-6A1A-4053-AE97-334E4A87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51B9-8CD3-4F55-B473-AE541571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641D-8BDC-405A-B4A7-7B86F568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DB01-C50D-40B8-A900-F3ACD4AB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9C9B-91F0-4946-A59E-13EFB9A5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EE6E-168B-4365-BF59-3570E373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F13B-988D-41DD-B06A-4B353345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258920" y="6248520"/>
            <a:ext cx="33098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Bologna, 3 luglio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2C49-04D8-44F7-A9D9-68F39B98E9F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7920" y="6248520"/>
            <a:ext cx="4078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ologna, 3 luglio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1182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6939-B527-4241-8308-279B20F746E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Consolidamento dei servizi camerali per l’alternanza scuola-lavoro e l’orientamento al mercato occupazionale e all’imprenditorialità  (7 CdC)– Fondo di perequazione 2005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2667-9A33-4AE2-9473-9663CBDD1C7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dici di gradimento (anno 2007-08) - student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2349360"/>
          <a:ext cx="6551640" cy="41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349360"/>
                    <a:ext cx="6551640" cy="41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93E6-6248-4377-B685-E8792E0756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dici di gradimento (anno 2007-08) - scuo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979640" y="2492280"/>
          <a:ext cx="568800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492280"/>
                    <a:ext cx="568800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78CA-0AB2-46CA-B0B4-D5C8015543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iettivi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OBIETTIVO GENERAL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otenziare il ruolo delle camere di commercio a supporto d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accordo tra il sistema produttivo e quello dell’istruzione e formazione, quale fattore strategico per lo sviluppo e la competitività dei sistemi produttivi e dell'innovazione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OBIETTIVI DEL PROGETT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) collaborazione interistituzionale tra sistema camerale, Uffici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colastico regionale, Uffici scolastici provinciali, Regione e Province, nell’ottica di mettere a sistema le risorse disponibili e le azioni intraprese da ciascun attore per il raccordo tr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ormazione e mondo del lavoro e l’orientamento nel mercato occupazionale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oggetto per sostenere le iniziative per il raccordo tra formazione e mondo del lavoro e l’orientamento nel mercato occupazional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b) supporto ai progetti di alternanza scuola-lavoro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05A8-6EF0-484A-ACED-BCE0C21F75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a) collaborazione interistituzionale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Risultati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bando regionale USR-Unioncamere Emilia-Romagna per la selezione dei progetti di alternanza scuola-lavoro-  315 progetti individuati (di cui 16 direttamente finanziati dal sistema camerale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cooperazione fra Uffici scolastici provinciali, Province e Camere di commercio per la selezione dei progetti e partecipazione congiunta dei funzionari delle 3 tipologie d’istituzioni ai corsi di formazione per i tutor, organizzati da USR e Unioncamere Emilia-Romagna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protocollo Unioncamere E.R. con la RER e l’USR; tavoli provinciali sull’alternanza scuola-lavoro di Bologna e Rimin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8B98-9A54-4B6D-9CDE-4C426BAEA5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b) supporto ai progetti di alternanza scuola-lavoro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Risultati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I progetti finanziati dal sistema camerale hanno coinvolto 307 aziende e 402 student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cinque corsi di formazione per   tutor scolastici e aziendali per cinque gruppi di province (di cui due finanziati da Unioncamere, che hanno coinvolto 106 partecipanti su 225 complessivi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monitoraggio dei progetti di alternanza scuola-lavoro finanziati sia dal sistema camerale che dai fondi del Ministero dell’Istruzione. Raccolti per le annualità considerate (2006-07 e 2007-08) rispettivamente 1601 e 2681 questionari di tutor, studenti e aziend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sistema informativo sui tirocini P.O.L.A.R.I.S.: nell’anno scolastico 2007-08 sono stati inserite circa 7300 schede relative a studenti, enti formativi, aziende, proposte di tirocinio, tirocini attivati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A0F3-25D4-478B-90B8-BB8BDA7A4C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b) supporto ai progetti di alternanza scuola-lavoro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5. 6000 pubblicazioni sui fabbisogni formativi e professionali emergenti dai dati Excelsior e le risultanze dell’analisi delle esperienze sulla terza annualità dei progetti di alternanz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6. incontri con scuole, istituzioni che hanno registrato la partecipazione di circa 550 person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7. 14 incontri rivolti agli studen</a:t>
            </a:r>
            <a:fld id="{0C7EBDE8-1B6B-478F-BA26-3EFCC49C52CC}" type="slidenum">
              <a:rPr b="0" lang="it-IT" sz="2400" spc="-1" strike="noStrike">
                <a:solidFill>
                  <a:srgbClr val="003366"/>
                </a:solidFill>
                <a:latin typeface="Arial"/>
              </a:rPr>
              <a:t>5</a:t>
            </a:fld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ti sull’informazione sui fabbisogni formativi, sull’auto-imprenditorialità e i servizi camerali per le imprese, a cui hanno partecipato 540 giovani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9B6C-D9BE-4455-A18F-7EE7DD21BE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dici di gradimento (anno 2007-08) - aziend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26920" y="2276640"/>
          <a:ext cx="7705800" cy="40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76640"/>
                    <a:ext cx="770580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6FE4-2A80-47C2-810A-E0087A75B8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dici di gradimento (anno 2007-08) - aziend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26920" y="2349360"/>
          <a:ext cx="7705800" cy="37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49360"/>
                    <a:ext cx="7705800" cy="37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72CC-DD5D-4D50-BAA8-4856ED194D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dici di gradimento (anno 2007-08) - aziend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050920" y="2924280"/>
          <a:ext cx="4695840" cy="26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924280"/>
                    <a:ext cx="469584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D289-2DEA-4A20-B651-A1BE982BFF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dici di gradimento (anno 2007-08) - student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692360" y="2349360"/>
          <a:ext cx="6264360" cy="38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349360"/>
                    <a:ext cx="6264360" cy="38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E037-EAE6-4130-A480-5D2F05BDFF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0:13:59Z</dcterms:created>
  <dc:creator>lenzi</dc:creator>
  <dc:description/>
  <dc:language>en-US</dc:language>
  <cp:lastModifiedBy>lenzi</cp:lastModifiedBy>
  <dcterms:modified xsi:type="dcterms:W3CDTF">2009-07-02T10:57:37Z</dcterms:modified>
  <cp:revision>8</cp:revision>
  <dc:subject/>
  <dc:title>Laboratori territoriali per raccordo domanda offerta di formazione e lavoro – Fondo di perequazione 2006</dc:title>
</cp:coreProperties>
</file>