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4C19-812F-4F56-9D50-A1063A4E9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D38-8764-4EF9-A52C-FF94EC019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977B-6FCC-4828-B7F0-D4F98D64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AFEF-7839-4D91-99DF-4CDC6E084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C834-A95E-437A-B7CC-D8493757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6C72C-0118-45B5-AAB7-DD56FA8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BB82-0EF0-46BD-AB55-31B0015A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9249-5649-4334-B482-44B2F87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880-9F93-43C4-86D7-0D2C05867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072D-175E-44F7-B9E1-AF2B4D85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7BAF-3CBA-4FD3-8D38-35514817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6F3-AC6D-4259-9495-42740D80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A3C7-9865-49B8-BCE8-472A51E9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8470-B906-4831-9266-CE2353BB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5423-EE62-4F4F-9E26-ECE4379D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340D-9903-4FD4-A79E-185D67A1E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225-F4B5-44B7-BBED-7AFB47C27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923B-EDB1-4285-8392-D482D2D6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36D-CE79-44D1-9F52-11903D15B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897-9289-4CB3-8D32-DBACA27B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D8EF-BBF6-4E50-A3C4-B85681D4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062-CEF3-4012-98AC-3C9C521B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38A-A1B7-40FF-9D2C-CF8B8D0A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0704-E97F-4490-9C63-A531BB32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258920" y="6248520"/>
            <a:ext cx="33098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1D4B-DB02-4F9A-BDA5-2DDED6943BD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7920" y="6248520"/>
            <a:ext cx="4078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ologna, 3 luglio 20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1182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5E46-833D-440D-85E9-9EA394FD1F4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66"/>
                </a:solidFill>
                <a:latin typeface="Arial"/>
              </a:rPr>
              <a:t>Consolidamento dei servizi camerali per l’alternanza scuola-lavoro e l’orientamento al mercato occupazionale e all’imprenditorialità  (7 CdC)– Fondo di perequazione 2005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7C9-FC99-459C-95DA-28CAB5BA00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2349360"/>
          <a:ext cx="6551640" cy="41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349360"/>
                    <a:ext cx="6551640" cy="41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3796-8A89-43E2-A868-8221CF7FBF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cuol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979640" y="2492280"/>
          <a:ext cx="5688000" cy="38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492280"/>
                    <a:ext cx="56880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DCA2-B8E5-4A24-BA39-14DCD205F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biettivi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O GENERAL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otenziare il ruolo delle camere di commercio a supporto d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accordo tra il sistema produttivo e quello dell’istruzione e formazione, quale fattore strategico per lo sviluppo e la competitività dei sistemi produttivi e dell'innovazione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OBIETTIVI DEL PROGET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) collaborazione interistituzionale tra sistema camerale, Uffic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colastico regionale, Uffici scolastici provinciali, Regione e Province, nell’ottica di mettere a sistema le risorse disponibili e le azioni intraprese da ciascun attore per il raccordo tr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azione e mondo del lavoro e l’orientamento nel mercato occupazional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ggetto per sostenere le iniziative per il raccordo tra formazione e mondo del lavoro e l’orientamento nel mercato occupazional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) supporto ai progetti di alternanza scuola-lavor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635-A56B-4159-8BC9-EFC6A5B49D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400"/>
            </a:b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a) collaborazione interistituzionale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66"/>
                </a:solidFill>
                <a:latin typeface="Arial"/>
              </a:rPr>
              <a:t>Risultati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bando regionale USR-Unioncamere Emilia-Romagna per la selezione dei progetti di alternanza scuola-lavoro-  315 progetti individuati (di cui 16 direttamente finanziati dal sistema camerale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cooperazione fra Uffici scolastici provinciali, Province e Camere di commercio per la selezione dei progetti e partecipazione congiunta dei funzionari delle 3 tipologie d’istituzioni ai corsi di formazione per i tutor, organizzati da USR e Unioncamere Emilia-Romagna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66"/>
                </a:solidFill>
                <a:latin typeface="Arial"/>
              </a:rPr>
              <a:t>protocollo Unioncamere E.R. con la RER e l’USR; tavoli provinciali sull’alternanza scuola-lavoro di Bologna e Rimin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7552-24E6-4F4F-9CFB-88C05959AC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Risultati: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 progetti finanziati dal sistema camerale hanno coinvolto 307 aziende e 402 student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cinque corsi di formazione per   tutor scolastici e aziendali per cinque gruppi di province (di cui due finanziati da Unioncamere, che hanno coinvolto 106 partecipanti su 225 complessiv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onitoraggio dei progetti di alternanza scuola-lavoro finanziati sia dal sistema camerale che dai fondi del Ministero dell’Istruzione. Raccolti per le annualità considerate (2006-07 e 2007-08) rispettivamente 1601 e 2681 questionari di tutor, studenti e azie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istema informativo sui tirocini P.O.L.A.R.I.S.: nell’anno scolastico 2007-08 sono stati inserite circa 7300 schede relative a studenti, enti formativi, aziende, proposte di tirocinio, tirocini attivati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CA7-E86A-4171-83A2-12E8AAFE54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Azione b) supporto ai progetti di alternanza scuola-lavoro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5. 6000 pubblicazioni sui fabbisogni formativi e professionali emergenti dai dati Excelsior e le risultanze dell’analisi delle esperienze sulla terza annualità dei progetti di alternanz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6. incontri con scuole, istituzioni che hanno registrato la partecipazione di circa 550 persone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7. 14 incontri rivolti agli studen</a:t>
            </a:r>
            <a:fld id="{A6D813AB-82E6-43AB-A9F3-BA74621A32CD}" type="slidenum">
              <a:rPr b="0" lang="it-IT" sz="2400" spc="-1" strike="noStrike">
                <a:solidFill>
                  <a:srgbClr val="003366"/>
                </a:solidFill>
                <a:latin typeface="Arial"/>
              </a:rPr>
              <a:t>5</a:t>
            </a:fld>
            <a:r>
              <a:rPr b="0" lang="it-IT" sz="2400" spc="-1" strike="noStrike">
                <a:solidFill>
                  <a:srgbClr val="003366"/>
                </a:solidFill>
                <a:latin typeface="Arial"/>
              </a:rPr>
              <a:t>ti sull’informazione sui fabbisogni formativi, sull’auto-imprenditorialità e i servizi camerali per le imprese, a cui hanno partecipato 540 giovani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5049-27F2-422E-AA0F-D5530955D0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6920" y="2276640"/>
          <a:ext cx="770580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770580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F6A0-BB6D-4AA2-9F26-F76D6C856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826920" y="2349360"/>
          <a:ext cx="7705800" cy="37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705800" cy="37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AB6A-FB3B-4BCE-A968-250FFBDED5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aziend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0920" y="2924280"/>
          <a:ext cx="4695840" cy="267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469584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367-F156-40B8-9C3F-623BA037F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dici di gradimento (anno 2007-08) - studenti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92360" y="2349360"/>
          <a:ext cx="6264360" cy="38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2349360"/>
                    <a:ext cx="6264360" cy="38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7C6-D20C-42A7-BFAC-69A8B4CCE8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1T10:13:59Z</dcterms:created>
  <dc:creator>lenzi</dc:creator>
  <dc:description/>
  <dc:language>en-US</dc:language>
  <cp:lastModifiedBy>lenzi</cp:lastModifiedBy>
  <dcterms:modified xsi:type="dcterms:W3CDTF">2009-07-02T10:57:37Z</dcterms:modified>
  <cp:revision>8</cp:revision>
  <dc:subject/>
  <dc:title>Laboratori territoriali per raccordo domanda offerta di formazione e lavoro – Fondo di perequazione 2006</dc:title>
</cp:coreProperties>
</file>