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2.png" ContentType="image/png"/>
  <Override PartName="/ppt/media/image21.png" ContentType="image/png"/>
  <Override PartName="/ppt/media/image10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3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9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72320" cy="9902880"/>
          </a:xfrm>
          <a:custGeom>
            <a:avLst/>
            <a:gdLst>
              <a:gd name="textAreaLeft" fmla="*/ 360 w 6772320"/>
              <a:gd name="textAreaRight" fmla="*/ 6771960 w 6772320"/>
              <a:gd name="textAreaTop" fmla="*/ 360 h 9902880"/>
              <a:gd name="textAreaBottom" fmla="*/ 9902520 h 9902880"/>
            </a:gdLst>
            <a:ahLst/>
            <a:rect l="textAreaLeft" t="textAreaTop" r="textAreaRight" b="textAreaBottom"/>
            <a:pathLst>
              <a:path w="21600" h="31584">
                <a:moveTo>
                  <a:pt x="5" y="0"/>
                </a:moveTo>
                <a:arcTo wR="5" hR="5" stAng="16200000" swAng="-5400000"/>
                <a:lnTo>
                  <a:pt x="0" y="31579"/>
                </a:lnTo>
                <a:arcTo wR="5" hR="5" stAng="10800000" swAng="-5400000"/>
                <a:lnTo>
                  <a:pt x="21595" y="315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909360" y="752400"/>
            <a:ext cx="494820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6440" y="4703400"/>
            <a:ext cx="5416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383220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220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E14CE-EB49-4819-AF1C-B7C30EBCF9A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F08-699A-449E-8E74-B362BD8C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AB8-90F7-48F2-B688-4C417085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477-5934-410A-B16E-B4D81588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C88-4020-48BE-8352-6EAE9531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C76-07CD-4E5E-BB72-DD299BBD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250-69F7-469F-B83A-240979F3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EA5-E193-41C2-9B53-8096918C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CB4-A2E0-46EA-9528-BDD1C1CC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E3C-1413-44DA-9AEF-DBCD0539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729-6B11-4E0B-8258-D54667F6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C155-CDF7-4EC9-9052-D48E30DC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D72-8794-46C7-9AD9-0B407766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C9623-93FD-419A-B709-6333471269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5651640"/>
            <a:ext cx="72900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2160" y="6083280"/>
            <a:ext cx="2394000" cy="36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0720" y="3419640"/>
            <a:ext cx="809928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Vetrina on-line </a:t>
            </a:r>
            <a:br>
              <a:rPr sz="3200"/>
            </a:b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per la cessione di piccole im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5219640"/>
            <a:ext cx="719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Rosa Marchi, Bologna, 12 genna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40000" y="179280"/>
            <a:ext cx="8099280" cy="1832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4120" y="2133720"/>
            <a:ext cx="347652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6705720"/>
            <a:ext cx="80992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066680"/>
            <a:ext cx="81946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alida gli annunci di propria competenza  per abilitarne la pubblicazione in vetrina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43828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Ha accesso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esclusivo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agli annunci riservati a lui affid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rcRect l="17714" t="11075" r="17714" b="47990"/>
          <a:stretch/>
        </p:blipFill>
        <p:spPr>
          <a:xfrm>
            <a:off x="4800600" y="4038480"/>
            <a:ext cx="4800600" cy="2436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2120" y="3657600"/>
            <a:ext cx="419076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inserire annunci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ompresi quelli relativi ad imprese che hanno sede presso una CCIAA che non ha aderito al servizio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51460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spone di funzioni di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monitoraggio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statistiche e possibilità di estrarre i dati in locale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raccogliere informazioni riservate aggiuntive  tramit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question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19920" y="5105520"/>
            <a:ext cx="2906640" cy="1366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80988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utilizzare le funzioni per la memorizzazione dei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ontatti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effettu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Se appartiene ad una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 “RETE”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es: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generazionimpresa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definita in fase di adesione al servizio) può accedere in visualizzazione anche agli annunci “riservati” di Potenziali Acquirenti affidati agli altri gestori della ret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rcRect l="14762" t="11075" r="14762" b="40607"/>
          <a:stretch/>
        </p:blipFill>
        <p:spPr>
          <a:xfrm>
            <a:off x="1828800" y="3429000"/>
            <a:ext cx="6705720" cy="3676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0" y="5334120"/>
            <a:ext cx="609480" cy="3808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La CCIA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12408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validare gli annunci “indipendenti” di cessione d’impresa e renderli visibili in vet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143000"/>
            <a:ext cx="6553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forzare l’esito degli annunci non pubblicati per irregolarità del diritto ann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48769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spone di funzioni statistiche per monitorare il servizio sulla propria provi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238880" y="990720"/>
            <a:ext cx="179892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cadenza degli annunci</a:t>
            </a: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iene gestita la “scadenza degli annunci” (a 3, 6 o 12 mesi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438280"/>
            <a:ext cx="829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In prossimità della scadenza viene inviata una mail di avviso al contatto dell’annun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886200"/>
            <a:ext cx="8294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Gli annunci scaduti non sono più visibili in bach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5257800"/>
            <a:ext cx="5181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Gli annunci scaduti possono essere “proroga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95880" y="4851360"/>
            <a:ext cx="25401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Eliminazione annunci</a:t>
            </a: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iene gestita l’eliminazione “logica” dell’annuncio con indicazione della motivazione (vendita effettuata, cessione ecc..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3352680"/>
            <a:ext cx="829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’annuncio eliminato non è visibile in vetrina ma è sempre disponibile all’inserzionista e all’eventuale Gest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238880" y="5105520"/>
            <a:ext cx="113184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tati avanzamento annun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a vali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895480"/>
            <a:ext cx="82944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Non pubblicab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010280" y="177840"/>
            <a:ext cx="2590920" cy="853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9810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bbl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809880"/>
            <a:ext cx="85341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Non pubblicabile (CdC)    -&gt;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diritto annuo irreg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4800600"/>
            <a:ext cx="8534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Sca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638680"/>
            <a:ext cx="8534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Elimin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200400" y="5872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3429000" y="1295280"/>
            <a:ext cx="330120" cy="330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343400" y="31240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76720" y="2133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3048120" y="5029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5410080" y="4114800"/>
            <a:ext cx="309600" cy="3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Versioni stor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1066680"/>
            <a:ext cx="83059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Quando l’inserzionista modifica un annuncio pubblicato,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la nuova versione dovrà essere nuovamente validat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(dal Gestore o Call Center o CCIAA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2666880" cy="879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3352680"/>
            <a:ext cx="8534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Una volta validata la nuova versione, la versione precedente dell’annuncio diventa “stor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791320" y="4876920"/>
            <a:ext cx="2579400" cy="1985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553080" y="5638680"/>
            <a:ext cx="2286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Mailing</a:t>
            </a: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143000"/>
            <a:ext cx="6248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Mail automatiche agli utenti interessati ogni qualvolta viene inserito un annuncio o modificato lo stato di avanzamento </a:t>
            </a:r>
            <a:br>
              <a:rPr sz="2800"/>
            </a:b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es: annuncio pubblicato in vetrina, annuncio eliminato, annuncio da validare ecc…)</a:t>
            </a: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781680" y="3352680"/>
            <a:ext cx="23162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00000" y="6480000"/>
            <a:ext cx="80996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La configur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95280"/>
            <a:ext cx="9082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In fase di avvio al servizio la CCIAA deve compilare gli appositi moduli – </a:t>
            </a:r>
            <a:r>
              <a:rPr b="0" i="1" lang="en-GB" sz="2800" spc="-1" strike="noStrike">
                <a:solidFill>
                  <a:srgbClr val="b84747"/>
                </a:solidFill>
                <a:latin typeface="Verdana"/>
              </a:rPr>
              <a:t>forniti dal consulente (CCC) Infocamere -</a:t>
            </a: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 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362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a scelta delle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opzioni di configurazion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(viene definito il livello di coinvolgimento della CCIAA)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733920"/>
            <a:ext cx="6858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a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definizione dei Gestori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configurati al servizio 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(assegnazione del </a:t>
            </a:r>
            <a:r>
              <a:rPr b="0" i="1" lang="en-GB" sz="2000" spc="-1" strike="noStrike" u="sng">
                <a:solidFill>
                  <a:srgbClr val="808080"/>
                </a:solidFill>
                <a:uFillTx/>
                <a:latin typeface="Verdana"/>
              </a:rPr>
              <a:t>codice RACS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 che identificherà l’Associazione di Categoria)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2286000" cy="21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6629400"/>
            <a:ext cx="80992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Cosa 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90920" y="4495680"/>
            <a:ext cx="5505480" cy="20606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914400" y="1143000"/>
            <a:ext cx="8421480" cy="1591920"/>
            <a:chOff x="914400" y="1143000"/>
            <a:chExt cx="8421480" cy="1591920"/>
          </a:xfrm>
        </p:grpSpPr>
        <p:sp>
          <p:nvSpPr>
            <p:cNvPr id="62" name=""/>
            <p:cNvSpPr/>
            <p:nvPr/>
          </p:nvSpPr>
          <p:spPr>
            <a:xfrm>
              <a:off x="914400" y="1143000"/>
              <a:ext cx="8110800" cy="6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b84747"/>
                  </a:solidFill>
                  <a:latin typeface="Verdana"/>
                </a:rPr>
                <a:t>Una vetrina on-line per Annunc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25080" y="1836000"/>
              <a:ext cx="8110800" cy="8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buClr>
                  <a:srgbClr val="b84747"/>
                </a:buClr>
                <a:buSzPct val="45000"/>
                <a:buFont typeface="Wingdings" charset="2"/>
                <a:buChar char="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808080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di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</a:t>
              </a:r>
              <a:r>
                <a:rPr b="1" lang="en-GB" sz="2800" spc="-1" strike="noStrike" u="sng">
                  <a:solidFill>
                    <a:srgbClr val="808080"/>
                  </a:solidFill>
                  <a:uFillTx/>
                  <a:latin typeface="Verdana"/>
                </a:rPr>
                <a:t>offerta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:</a:t>
              </a:r>
              <a:r>
                <a:rPr b="1" lang="en-GB" sz="28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808080"/>
                  </a:solidFill>
                  <a:latin typeface="Arial"/>
                </a:rPr>
                <a:t>s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ezione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imprese in vendita 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o in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ricerca soc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95280" y="3124080"/>
            <a:ext cx="77551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 </a:t>
            </a:r>
            <a:r>
              <a:rPr b="1" lang="en-GB" sz="2800" spc="-1" strike="noStrike" u="sng">
                <a:solidFill>
                  <a:srgbClr val="808080"/>
                </a:solidFill>
                <a:uFillTx/>
                <a:latin typeface="Verdana"/>
              </a:rPr>
              <a:t>domanda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: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sezion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potenziali acqui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066680"/>
            <a:ext cx="87631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Gli utenti delle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CCIAA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e dei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Gestori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(Associazioni di categoria) vengono abilitati </a:t>
            </a:r>
            <a:r>
              <a:rPr b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unicamente tramite il Consulente (CCC) Infocamere </a:t>
            </a:r>
            <a:r>
              <a:rPr b="0" i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(che inoltra la richiesta al servizio abilitazioni di Infocamere)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compilando gli appositi </a:t>
            </a:r>
            <a:r>
              <a:rPr b="0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modu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23619" t="18458" r="23619" b="29532"/>
          <a:stretch/>
        </p:blipFill>
        <p:spPr>
          <a:xfrm>
            <a:off x="533520" y="3505320"/>
            <a:ext cx="4419360" cy="3485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rcRect l="23619" t="22149" r="23619" b="18458"/>
          <a:stretch/>
        </p:blipFill>
        <p:spPr>
          <a:xfrm>
            <a:off x="5181480" y="3505320"/>
            <a:ext cx="3962520" cy="35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e im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066680"/>
            <a:ext cx="8542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Tutti gli altri utenti (imprese, professionisti, privati, Associazioni di categoria che non hanno il ruolo di “Gestore” ecc..) si abilitano autonomamente  tramite la sottoscrizione del servizio </a:t>
            </a:r>
            <a:r>
              <a:rPr b="0" lang="en-GB" sz="2400" spc="-1" strike="noStrike">
                <a:solidFill>
                  <a:srgbClr val="b84747"/>
                </a:solidFill>
                <a:latin typeface="Verdana"/>
              </a:rPr>
              <a:t>incontre</a:t>
            </a:r>
            <a:r>
              <a:rPr b="1" lang="en-GB" sz="2400" spc="-1" strike="noStrike">
                <a:solidFill>
                  <a:srgbClr val="b84747"/>
                </a:solidFill>
                <a:latin typeface="Verdana"/>
              </a:rPr>
              <a:t>rete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rcRect l="17714" t="11075" r="14762" b="25841"/>
          <a:stretch/>
        </p:blipFill>
        <p:spPr>
          <a:xfrm>
            <a:off x="4541760" y="3035160"/>
            <a:ext cx="4818240" cy="4165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0" y="5791320"/>
            <a:ext cx="38088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e im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91440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La sottoscrizione del servizio è permessa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a tutte le categorie di utenti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, anche pri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2666880"/>
            <a:ext cx="829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Se l’utente è un’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impresa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, viene  effettuato il controllo sulla regolarità del pagamento del diritto an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4267080"/>
            <a:ext cx="829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L’utente che inserisce l’annuncio può essere un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soggetto diverso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dall’impresa o dal potenziale acquirente oggetto dell’annun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934320" y="5715000"/>
            <a:ext cx="1295280" cy="5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47640" y="5651640"/>
            <a:ext cx="72900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22160" y="6083280"/>
            <a:ext cx="2394000" cy="360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440000" y="3233880"/>
            <a:ext cx="7380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grazie per la cortese 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19280" y="5219640"/>
            <a:ext cx="719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Per contattarci: rosa.marchi@infocamere.it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marco.vianello@infocamere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1368360" y="179280"/>
            <a:ext cx="8245440" cy="18655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396216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Imprese in vend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0" y="177840"/>
            <a:ext cx="2743200" cy="904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rcRect l="14762" t="18458" r="14762" b="18458"/>
          <a:stretch/>
        </p:blipFill>
        <p:spPr>
          <a:xfrm>
            <a:off x="1219320" y="1295280"/>
            <a:ext cx="7049880" cy="5048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2480" y="1447920"/>
            <a:ext cx="45720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Imprese in vend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84747"/>
                </a:solidFill>
                <a:latin typeface="Verdana"/>
              </a:rPr>
              <a:t>Le imprese in vendita </a:t>
            </a: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(o in cerca di soci)</a:t>
            </a:r>
            <a:r>
              <a:rPr b="0" lang="en-GB" sz="3200" spc="-1" strike="noStrike">
                <a:solidFill>
                  <a:srgbClr val="b84747"/>
                </a:solidFill>
                <a:latin typeface="Verdana"/>
              </a:rPr>
              <a:t> devo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1400" y="1808280"/>
            <a:ext cx="82944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risultare registrate al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Registro Imprese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(non cessate, non inattive)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352680"/>
            <a:ext cx="775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ave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sed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presso una CCIAA che ha aderito al servi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4572000"/>
            <a:ext cx="775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essere in regola con il pagamento del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diritto ann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711840" y="5219640"/>
            <a:ext cx="1927440" cy="126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8000" y="177840"/>
            <a:ext cx="2743200" cy="904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Potenziali acquir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85800"/>
            <a:ext cx="82947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Questa sezione è svincolata dall’adesione delle CCIAA al serviz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086600" y="203040"/>
            <a:ext cx="2514600" cy="828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rcRect l="17714" t="11075" r="17714" b="25841"/>
          <a:stretch/>
        </p:blipFill>
        <p:spPr>
          <a:xfrm>
            <a:off x="3733920" y="2219400"/>
            <a:ext cx="5448240" cy="4259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5790960" y="2666880"/>
            <a:ext cx="533160" cy="304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annun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8098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'annuncio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indipendente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808080"/>
                </a:solidFill>
                <a:latin typeface="Verdana"/>
              </a:rPr>
              <a:t>pubblico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143000"/>
            <a:ext cx="8218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'annuncio tramit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Gestore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amera di Commercio o Associazione di categoria)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209680"/>
            <a:ext cx="775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pubblico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dettagli visibili agli utenti registrati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971800"/>
            <a:ext cx="7754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riservato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dettagli visibili solo al Gestore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648320"/>
            <a:ext cx="2514600" cy="1847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CCIAA di Bolog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81952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Gesto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CIAA di Bologna: 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102 annunci di potenziali acqui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219320"/>
            <a:ext cx="8763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Tutti gli annunci di Bologna presenti nella banca dati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808080"/>
                </a:solidFill>
                <a:uFillTx/>
                <a:latin typeface="Arial"/>
              </a:rPr>
              <a:t>generazionimpresa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sono stati inseriti nel sistema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incontre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rete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: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34340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Gesto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NA di Bologna: 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527 annunci di potenziali acquirenti</a:t>
            </a:r>
            <a:br>
              <a:rPr sz="2000"/>
            </a:b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 110 annunci di cessione d’i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logo_RER" descr=""/>
          <p:cNvPicPr/>
          <p:nvPr/>
        </p:nvPicPr>
        <p:blipFill>
          <a:blip r:embed="rId3"/>
          <a:stretch/>
        </p:blipFill>
        <p:spPr>
          <a:xfrm>
            <a:off x="6248520" y="4648320"/>
            <a:ext cx="336204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u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81952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 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im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+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 (che ha sottoscritto il servizio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incontre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ret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):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può inserire annunci (che dovranno essere “validati”)  e visionare il dettaglio degli annunci pubblic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219320"/>
            <a:ext cx="8763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anonimo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effettua ricerche sugli annunci pubblicati senza però poter accedere al detta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42-20653578" descr=""/>
          <p:cNvPicPr/>
          <p:nvPr/>
        </p:nvPicPr>
        <p:blipFill>
          <a:blip r:embed="rId3"/>
          <a:stretch/>
        </p:blipFill>
        <p:spPr>
          <a:xfrm>
            <a:off x="7772400" y="3962520"/>
            <a:ext cx="15699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u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77551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Associazione di categori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con ruolo di Gestore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590920"/>
            <a:ext cx="8305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CCIA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he può anche essere Gestore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733920"/>
            <a:ext cx="8305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Call Center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valida gli annunci “indipende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105520"/>
            <a:ext cx="8686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Infocamer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configura le CCIAA e i Gestori in fase di avvio, effettua il monitoraggio dei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Camere scpa</cp:lastModifiedBy>
  <dcterms:modified xsi:type="dcterms:W3CDTF">2009-01-12T13:42:23Z</dcterms:modified>
  <cp:revision>14</cp:revision>
  <dc:subject/>
  <dc:title>Presentazione di PowerPoint</dc:title>
</cp:coreProperties>
</file>