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2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9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5" y="0"/>
                </a:moveTo>
                <a:arcTo wR="5" hR="5" stAng="16200000" swAng="-5400000"/>
                <a:lnTo>
                  <a:pt x="0" y="31579"/>
                </a:lnTo>
                <a:arcTo wR="5" hR="5" stAng="10800000" swAng="-5400000"/>
                <a:lnTo>
                  <a:pt x="21595" y="315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909360" y="752400"/>
            <a:ext cx="494820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7EDAF-7695-4A7F-99EC-A72364E42D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09720" y="75240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DCB-5690-424F-B546-6AB86EAC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0A2-AE50-4F54-9E33-E024811D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141-3F9F-4896-8F2B-A9C93400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922-3CA4-48A9-9A42-42A1BD7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878-F9F1-4E43-9F28-B2290A5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FE8-2920-44EA-A574-00E4B08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E11-CCB7-4381-B1DA-96C599F6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5FA-D0C2-405A-B3AC-857A4CE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E32-5EE0-4EB7-865F-7B580903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FB3-7E50-4244-BC0E-D952DD9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CFF-1914-46BB-A4DA-2C1865A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C95-BC64-44DC-8A68-2033008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9A20-8290-4CA7-8D79-12839983B2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0720" y="3419640"/>
            <a:ext cx="80992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etrina on-line </a:t>
            </a:r>
            <a:br>
              <a:rPr sz="3200"/>
            </a:b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er la cessione di piccole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5219640"/>
            <a:ext cx="719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Rosa Marchi, Bologna, 12 genna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40000" y="179280"/>
            <a:ext cx="8099280" cy="1832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2133720"/>
            <a:ext cx="347652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670572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066680"/>
            <a:ext cx="819468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alida gli annunci di propria competenza  per abilitarne la pubblicazione in vetrin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4382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Ha accesso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esclusiv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agli annunci riservati a lui affi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17714" t="11075" r="17714" b="47990"/>
          <a:stretch/>
        </p:blipFill>
        <p:spPr>
          <a:xfrm>
            <a:off x="4800600" y="4038480"/>
            <a:ext cx="4800600" cy="243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62120" y="3657600"/>
            <a:ext cx="419076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inserire annunci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ompresi quelli relativi ad imprese che hanno sede presso una CCIAA che non ha aderito al servizio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51460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d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monitoraggio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statistiche e possibilità di estrarre i dati in local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raccogliere informazioni riservate aggiuntive  tramit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question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5105520"/>
            <a:ext cx="2906640" cy="1366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809880"/>
            <a:ext cx="829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utilizzare le funzioni per la memorizzazione dei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ontatti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effettu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Il Gestore -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9907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e appartiene ad una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 “RETE”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es: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generazionimpres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definita in fase di adesione al servizio) può accedere in visualizzazione anche agli annunci “riservati” di Potenziali Acquirenti affidati agli altri gestori della 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4762" t="11075" r="14762" b="40607"/>
          <a:stretch/>
        </p:blipFill>
        <p:spPr>
          <a:xfrm>
            <a:off x="1828800" y="3429000"/>
            <a:ext cx="6705720" cy="3676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0" y="5334120"/>
            <a:ext cx="609480" cy="3808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La CCIA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12408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validare gli annunci “indipendenti” di cessione d’impresa e renderli visibili in vet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143000"/>
            <a:ext cx="6553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ò forzare l’esito degli annunci non pubblicati per irregolarità del diritto ann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876920"/>
            <a:ext cx="829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spone di funzioni statistiche per monitorare il servizio sulla propria provi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7989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cadenza degli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a “scadenza degli annunci” (a 3, 6 o 12 mes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4382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In prossimità della scadenza viene inviata una mail di avviso al contatto dell’annun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886200"/>
            <a:ext cx="829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non sono più visibili in bach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257800"/>
            <a:ext cx="5181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Gli annunci scaduti possono essere “proroga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485136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Eliminazione annunci</a:t>
            </a: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Viene gestita l’eliminazione “logica” dell’annuncio con indicazione della motivazione (vendita effettuata, cessione ecc..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52680"/>
            <a:ext cx="829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’annuncio eliminato non è visibile in vetrina ma è sempre disponibile all’inserzionista e all’eventuale Ges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131840" cy="11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tati avanzamento annun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0666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a vali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895480"/>
            <a:ext cx="8294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010280" y="177840"/>
            <a:ext cx="2590920" cy="853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Pubbl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809880"/>
            <a:ext cx="8534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Non pubblicabile (CdC)    -&gt;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diritto annuo irrego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4800600"/>
            <a:ext cx="8534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ca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5638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limin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200400" y="5872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330120" cy="330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343400" y="312408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27672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8"/>
          <a:stretch/>
        </p:blipFill>
        <p:spPr>
          <a:xfrm>
            <a:off x="5410080" y="4114800"/>
            <a:ext cx="30960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Versioni stor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066680"/>
            <a:ext cx="83059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Quando l’inserzionista modifica un annuncio pubblicato,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la nuova versione dovrà essere nuovamente validat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(dal Gestore o Call Center o CCIAA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2666880" cy="879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352680"/>
            <a:ext cx="8534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Una volta validata la nuova versione, la versione precedente dell’annuncio diventa “stor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5791320" y="4876920"/>
            <a:ext cx="2579400" cy="1985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553080" y="5638680"/>
            <a:ext cx="2286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Mailing</a:t>
            </a:r>
            <a:r>
              <a:rPr b="0" lang="en-US" sz="3000" spc="-1" strike="noStrike">
                <a:solidFill>
                  <a:srgbClr val="00008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143000"/>
            <a:ext cx="6248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ail automatiche agli utenti interessati ogni qualvolta viene inserito un annuncio o modificato lo stato di avanzamento </a:t>
            </a:r>
            <a:br>
              <a:rPr sz="28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es: annuncio pubblicato in vetrina, annuncio eliminato, annuncio da validare ecc…)</a:t>
            </a:r>
            <a:r>
              <a:rPr b="0" i="1" lang="en-GB" sz="28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781680" y="3352680"/>
            <a:ext cx="23162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00000" y="6480000"/>
            <a:ext cx="80996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La configura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95280"/>
            <a:ext cx="9082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In fase di avvio al servizio la CCIAA deve compilare gli appositi moduli – </a:t>
            </a:r>
            <a:r>
              <a:rPr b="0" i="1" lang="en-GB" sz="2800" spc="-1" strike="noStrike">
                <a:solidFill>
                  <a:srgbClr val="b84747"/>
                </a:solidFill>
                <a:latin typeface="Verdana"/>
              </a:rPr>
              <a:t>forniti dal consulente (CCC) Infocamere -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 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362320"/>
            <a:ext cx="7391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scelta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opzioni di configurazion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viene definito il livello di coinvolgimento della CCIA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7339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a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definizione dei 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nfigurati al servizio 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(assegnazione del </a:t>
            </a:r>
            <a:r>
              <a:rPr b="0" i="1" lang="en-GB" sz="2000" spc="-1" strike="noStrike" u="sng">
                <a:solidFill>
                  <a:srgbClr val="808080"/>
                </a:solidFill>
                <a:uFillTx/>
                <a:latin typeface="Verdana"/>
              </a:rPr>
              <a:t>codice RACS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 che identificherà l’Associazione di Categoria)</a:t>
            </a:r>
            <a:r>
              <a:rPr b="0" i="1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22860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6629400"/>
            <a:ext cx="80992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osa 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90920" y="4495680"/>
            <a:ext cx="5505480" cy="20606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143000"/>
            <a:ext cx="8421480" cy="1591920"/>
            <a:chOff x="914400" y="1143000"/>
            <a:chExt cx="8421480" cy="1591920"/>
          </a:xfrm>
        </p:grpSpPr>
        <p:sp>
          <p:nvSpPr>
            <p:cNvPr id="62" name=""/>
            <p:cNvSpPr/>
            <p:nvPr/>
          </p:nvSpPr>
          <p:spPr>
            <a:xfrm>
              <a:off x="914400" y="1143000"/>
              <a:ext cx="811080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b84747"/>
                  </a:solidFill>
                  <a:latin typeface="Verdana"/>
                </a:rPr>
                <a:t>Una vetrina on-line per Annunc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5080" y="1836000"/>
              <a:ext cx="8110800" cy="8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buClr>
                  <a:srgbClr val="b84747"/>
                </a:buClr>
                <a:buSzPct val="45000"/>
                <a:buFont typeface="Wingdings" charset="2"/>
                <a:buChar char="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di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</a:t>
              </a:r>
              <a:r>
                <a:rPr b="1" lang="en-GB" sz="2800" spc="-1" strike="noStrike" u="sng">
                  <a:solidFill>
                    <a:srgbClr val="808080"/>
                  </a:solidFill>
                  <a:uFillTx/>
                  <a:latin typeface="Verdana"/>
                </a:rPr>
                <a:t>offerta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:</a:t>
              </a:r>
              <a:r>
                <a:rPr b="1" lang="en-GB" sz="2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808080"/>
                  </a:solidFill>
                  <a:latin typeface="Arial"/>
                </a:rPr>
                <a:t>s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ezione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imprese in vendita </a:t>
              </a:r>
              <a:r>
                <a:rPr b="0" lang="en-GB" sz="2800" spc="-1" strike="noStrike">
                  <a:solidFill>
                    <a:srgbClr val="808080"/>
                  </a:solidFill>
                  <a:latin typeface="Verdana"/>
                </a:rPr>
                <a:t>o in</a:t>
              </a:r>
              <a:r>
                <a:rPr b="1" lang="en-GB" sz="2800" spc="-1" strike="noStrike">
                  <a:solidFill>
                    <a:srgbClr val="808080"/>
                  </a:solidFill>
                  <a:latin typeface="Verdana"/>
                </a:rPr>
                <a:t> ricerca soc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3124080"/>
            <a:ext cx="7755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di </a:t>
            </a:r>
            <a:r>
              <a:rPr b="1" lang="en-GB" sz="2800" spc="-1" strike="noStrike" u="sng">
                <a:solidFill>
                  <a:srgbClr val="808080"/>
                </a:solidFill>
                <a:uFillTx/>
                <a:latin typeface="Verdana"/>
              </a:rPr>
              <a:t>domanda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: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sezion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potenziali acqui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Gli utenti delle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CCIAA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e dei 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Gestori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(Associazioni di categoria) vengono abilitati </a:t>
            </a:r>
            <a:r>
              <a:rPr b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unicamente tramite il Consulente (CCC) Infocamere </a:t>
            </a:r>
            <a:r>
              <a:rPr b="0" i="1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(che inoltra la richiesta al servizio abilitazioni di Infocamere)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compilando gli appositi </a:t>
            </a:r>
            <a:r>
              <a:rPr b="0" lang="en-GB" sz="2400" spc="-1" strike="noStrike" u="sng">
                <a:solidFill>
                  <a:srgbClr val="808080"/>
                </a:solidFill>
                <a:uFillTx/>
                <a:latin typeface="Verdana"/>
              </a:rPr>
              <a:t>modu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19" t="18458" r="23619" b="29532"/>
          <a:stretch/>
        </p:blipFill>
        <p:spPr>
          <a:xfrm>
            <a:off x="533520" y="3505320"/>
            <a:ext cx="4419360" cy="348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23619" t="22149" r="23619" b="18458"/>
          <a:stretch/>
        </p:blipFill>
        <p:spPr>
          <a:xfrm>
            <a:off x="5181480" y="35053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066680"/>
            <a:ext cx="85424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ltri utenti (imprese, professionisti, privati, Associazioni di categoria che non hanno il ruolo di “Gestore” ecc..) si abilitano autonomamente  tramite la sottoscrizione del servizio </a:t>
            </a:r>
            <a:r>
              <a:rPr b="0" lang="en-GB" sz="2400" spc="-1" strike="noStrike">
                <a:solidFill>
                  <a:srgbClr val="b84747"/>
                </a:solidFill>
                <a:latin typeface="Verdana"/>
              </a:rPr>
              <a:t>incontre</a:t>
            </a:r>
            <a:r>
              <a:rPr b="1" lang="en-GB" sz="2400" spc="-1" strike="noStrike">
                <a:solidFill>
                  <a:srgbClr val="b84747"/>
                </a:solidFill>
                <a:latin typeface="Verdana"/>
              </a:rPr>
              <a:t>ret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rcRect l="17714" t="11075" r="14762" b="25841"/>
          <a:stretch/>
        </p:blipFill>
        <p:spPr>
          <a:xfrm>
            <a:off x="4541760" y="3035160"/>
            <a:ext cx="4818240" cy="4165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Abilitazione im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91440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a sottoscrizione del servizio è permessa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a tutte le categorie di utenti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anche pr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6668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Se l’utente è un’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impresa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, viene  effettuato il controllo sulla regolarità del pagamento del diritto an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829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L’utente che inserisce l’annuncio può essere un </a:t>
            </a:r>
            <a:r>
              <a:rPr b="1" i="1" lang="en-GB" sz="2400" spc="-1" strike="noStrike">
                <a:solidFill>
                  <a:srgbClr val="808080"/>
                </a:solidFill>
                <a:latin typeface="Verdana"/>
              </a:rPr>
              <a:t>soggetto diverso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dall’impresa o dal potenziale acquirente oggetto dell’annu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934320" y="5715000"/>
            <a:ext cx="1295280" cy="5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47640" y="5651640"/>
            <a:ext cx="72900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22160" y="6083280"/>
            <a:ext cx="2394000" cy="360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440000" y="3233880"/>
            <a:ext cx="73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grazie per la cortese 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19280" y="521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Per contattarci: rosa.marchi@infocamere.it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Verdana"/>
              </a:rPr>
              <a:t>marco.vianello@infocamere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368360" y="179280"/>
            <a:ext cx="8245440" cy="18655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96216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14762" t="18458" r="14762" b="18458"/>
          <a:stretch/>
        </p:blipFill>
        <p:spPr>
          <a:xfrm>
            <a:off x="1219320" y="1295280"/>
            <a:ext cx="7049880" cy="504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52480" y="1447920"/>
            <a:ext cx="457200" cy="2286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Imprese in vend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Le imprese in vendita </a:t>
            </a:r>
            <a:r>
              <a:rPr b="0" lang="en-GB" sz="2800" spc="-1" strike="noStrike">
                <a:solidFill>
                  <a:srgbClr val="b84747"/>
                </a:solidFill>
                <a:latin typeface="Verdana"/>
              </a:rPr>
              <a:t>(o in cerca di soci)</a:t>
            </a:r>
            <a:r>
              <a:rPr b="0" lang="en-GB" sz="3200" spc="-1" strike="noStrike">
                <a:solidFill>
                  <a:srgbClr val="b84747"/>
                </a:solidFill>
                <a:latin typeface="Verdana"/>
              </a:rPr>
              <a:t> devo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1400" y="1808280"/>
            <a:ext cx="82944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risultare registrate al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Registro Imprese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(non cessate, non inattive)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335268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ave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sed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presso una CCIAA che ha aderito al serviz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4572000"/>
            <a:ext cx="775476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essere in regola con il pagamento del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diritto ann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11840" y="5219640"/>
            <a:ext cx="1927440" cy="126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8000" y="177840"/>
            <a:ext cx="2743200" cy="90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Sezione Potenziali acquir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85800"/>
            <a:ext cx="82947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Questa sezione è svincolata dall’adesione delle CCIAA al serviz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086600" y="203040"/>
            <a:ext cx="2514600" cy="8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rcRect l="17714" t="11075" r="17714" b="25841"/>
          <a:stretch/>
        </p:blipFill>
        <p:spPr>
          <a:xfrm>
            <a:off x="3733920" y="2219400"/>
            <a:ext cx="5448240" cy="4259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5790960" y="2666880"/>
            <a:ext cx="533160" cy="304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annun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5476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indipendente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</a:t>
            </a:r>
            <a:r>
              <a:rPr b="1" lang="en-GB" sz="2000" spc="-1" strike="noStrike">
                <a:solidFill>
                  <a:srgbClr val="808080"/>
                </a:solidFill>
                <a:latin typeface="Verdana"/>
              </a:rPr>
              <a:t>pubblico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8218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L'annuncio tramit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Gestore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amera di Commercio o Associazione di categoria)</a:t>
            </a: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209680"/>
            <a:ext cx="77547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pubblic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agli utenti registrati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971800"/>
            <a:ext cx="77547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riservato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(dettagli visibili solo al Gestore)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4648320"/>
            <a:ext cx="251460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CCIAA di Bolog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CIA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102 annunci di potenziali acqui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Tutti gli annunci di Bologna presenti nella banca dati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808080"/>
                </a:solidFill>
                <a:uFillTx/>
                <a:latin typeface="Arial"/>
              </a:rPr>
              <a:t>generazionimpresa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sono stati inseriti nel sistema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Arial"/>
              </a:rPr>
              <a:t> :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34340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Gestore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CNA di Bologna: </a:t>
            </a:r>
            <a:br>
              <a:rPr sz="2800"/>
            </a:b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527 annunci di potenziali acquirenti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Verdana"/>
              </a:rPr>
              <a:t> 110 annunci di cessione d’i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logo_RER" descr=""/>
          <p:cNvPicPr/>
          <p:nvPr/>
        </p:nvPicPr>
        <p:blipFill>
          <a:blip r:embed="rId3"/>
          <a:stretch/>
        </p:blipFill>
        <p:spPr>
          <a:xfrm>
            <a:off x="6248520" y="4648320"/>
            <a:ext cx="336204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19520"/>
            <a:ext cx="71625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 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im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 (che ha sottoscritto il servizio </a:t>
            </a:r>
            <a:r>
              <a:rPr b="0" lang="en-GB" sz="2800" spc="-1" strike="noStrike">
                <a:solidFill>
                  <a:srgbClr val="a50021"/>
                </a:solidFill>
                <a:latin typeface="Verdana"/>
              </a:rPr>
              <a:t>incontre</a:t>
            </a:r>
            <a:r>
              <a:rPr b="1" lang="en-GB" sz="2800" spc="-1" strike="noStrike">
                <a:solidFill>
                  <a:srgbClr val="a50021"/>
                </a:solidFill>
                <a:latin typeface="Verdana"/>
              </a:rPr>
              <a:t>ret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): 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può inserire annunci (che dovranno essere “validati”)  e visionare il dettaglio degli annunci pubbl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219320"/>
            <a:ext cx="8763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1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nonimo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effettua ricerche sugli annunci pubblicati senza però poter accedere al dett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2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42-20653578" descr=""/>
          <p:cNvPicPr/>
          <p:nvPr/>
        </p:nvPicPr>
        <p:blipFill>
          <a:blip r:embed="rId3"/>
          <a:stretch/>
        </p:blipFill>
        <p:spPr>
          <a:xfrm>
            <a:off x="7772400" y="3962520"/>
            <a:ext cx="15699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9966240" cy="755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6532560"/>
            <a:ext cx="80996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000" y="324000"/>
            <a:ext cx="75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80"/>
                </a:solidFill>
                <a:latin typeface="Verdana"/>
              </a:rPr>
              <a:t>Tipologia di u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2160720"/>
            <a:ext cx="17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00800" y="152280"/>
            <a:ext cx="2819520" cy="930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63640" y="915840"/>
            <a:ext cx="80992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7551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Associazione di categori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con ruolo di Gestore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590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CIAA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(che può anche essere Gestore)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733920"/>
            <a:ext cx="83059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Call Center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valida gli annunci “indipend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105520"/>
            <a:ext cx="8686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buClr>
                <a:srgbClr val="b84747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</a:rPr>
              <a:t>Utente Infocamer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808080"/>
                </a:solidFill>
                <a:latin typeface="Verdana"/>
              </a:rPr>
              <a:t>configura le CCIAA e i Gestori in fase di avvio, effettua il monitoraggio dei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foCamere scpa</cp:lastModifiedBy>
  <dcterms:modified xsi:type="dcterms:W3CDTF">2009-01-12T13:42:23Z</dcterms:modified>
  <cp:revision>14</cp:revision>
  <dc:subject/>
  <dc:title>Presentazione di PowerPoint</dc:title>
</cp:coreProperties>
</file>