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1A8-808A-4357-8DB4-5720CB86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1D1-3B5F-4373-8A84-D8679B2C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960-4820-47F8-8ED9-C630138A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B68-AAB9-4823-AD84-01A6108B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4BF4-2E11-4961-A224-0576629E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7F92-AC2C-43D6-854B-213C72E3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6894-9108-405D-AB7F-CA357937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2FAF-E2F3-402A-8C78-65E292A0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C14-E0EF-4024-8395-5015FD2F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A7EC-173B-4E08-8159-2720F315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D63F-264D-42F7-AE9F-1B43132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688-6AA7-4221-942F-E2D88EA0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B120-EB9E-4689-B46B-9393F27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0BA9-24D3-40D7-857C-FB501FCA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9DC5-8C59-4B60-8A3C-4F82909F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BEB7-BD50-4E86-99B8-0FA448F9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A905-78EB-425F-94B5-BE32341E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ACD-D334-4068-8BB0-F979A557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32A-89D2-4ABD-BB7C-B3253A82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764-8E51-43E8-9709-F480969F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E85-67B8-42D4-84E7-32755614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305-9B57-4BCC-B5FB-D29B4009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81B-B967-4ED6-8255-E35C241E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902-335B-4BB8-AF40-69675877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0FA-A857-43F5-B4F3-9361636EC4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7C42-B3E2-44B9-AD15-47B8402E52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onsolidamento dei servizi camerali per l’alternanza scuola-lavoro e l’orientamento al mercato occupazionale e all’imprenditorialità  (7 CdC)– Fondo di perequazione 2005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9BBE-23AD-465B-9672-00F039E4DF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349360"/>
          <a:ext cx="6551640" cy="41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655164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306-1820-4DC2-B0CE-8D4306166E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cuo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79640" y="2492280"/>
          <a:ext cx="56880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92280"/>
                    <a:ext cx="5688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D36-9FA3-410F-BDA0-0EE6F44712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tenziare il ruolo delle camere di commercio a supporto d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ccordo tra il sistema produttivo e quello dell’istruzione e formazione, quale fattore strategico per lo sviluppo e la competitività dei sistemi produttivi e dell'innovazion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) collaborazione interistituzionale tra sistema camerale, Uff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colastico regionale, Uffici scolastici provinciali, Regione e Province, nell’ottica di mettere a sistema le risorse disponibili e le azioni intraprese da ciascun attore per il raccordo tr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mazione e mondo del lavoro e l’orientamento nel mercato occupaziona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ggetto per sostenere le iniziative per il raccordo tra formazione e mondo del lavoro e l’orientamento nel mercato occupazional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) supporto ai progetti di alternanza scuola-lavor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8CB-13F0-4AB0-8C39-06E8F18EC1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collaborazione interistituzionale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ultat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ando regionale USR-Unioncamere Emilia-Romagna per la selezione dei progetti di alternanza scuola-lavoro-  315 progetti individuati (di cui 16 direttamente finanziati dal sistema camerale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operazione fra Uffici scolastici provinciali, Province e Camere di commercio per la selezione dei progetti e partecipazione congiunta dei funzionari delle 3 tipologie d’istituzioni ai corsi di formazione per i tutor, organizzati da USR e Unioncamere Emilia-Romagn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tocollo Unioncamere E.R. con la RER e l’USR; tavoli provinciali sull’alternanza scuola-lavoro di Bologna e Rim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48A-2CCA-43FB-B7B6-9FA812D24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sultati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 progetti finanziati dal sistema camerale hanno coinvolto 307 aziende e 402 stud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inque corsi di formazione per   tutor scolastici e aziendali per cinque gruppi di province (di cui due finanziati da Unioncamere, che hanno coinvolto 106 partecipanti su 225 complessiv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onitoraggio dei progetti di alternanza scuola-lavoro finanziati sia dal sistema camerale che dai fondi del Ministero dell’Istruzione. Raccolti per le annualità considerate (2006-07 e 2007-08) rispettivamente 1601 e 2681 questionari di tutor, studenti e azien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a informativo sui tirocini P.O.L.A.R.I.S.: nell’anno scolastico 2007-08 sono stati inserite circa 7300 schede relative a studenti, enti formativi, aziende, proposte di tirocinio, tirocini attivati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17D-F929-47F5-B84B-BE87AEDBE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5. 6000 pubblicazioni sui fabbisogni formativi e professionali emergenti dai dati Excelsior e le risultanze dell’analisi delle esperienze sulla terza annualità dei progetti di altern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6. incontri con scuole, istituzioni che hanno registrato la partecipazione di circa 550 person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7. 14 incontri rivolti agli studen</a:t>
            </a:r>
            <a:fld id="{A1424DB4-2FBF-4A26-86C8-2C59B5DA5B30}" type="slidenum">
              <a:rPr b="0" lang="it-IT" sz="2400" spc="-1" strike="noStrike">
                <a:solidFill>
                  <a:srgbClr val="003366"/>
                </a:solidFill>
                <a:latin typeface="Arial"/>
              </a:rPr>
              <a:t>5</a:t>
            </a:fld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i sull’informazione sui fabbisogni formativi, sull’auto-imprenditorialità e i servizi camerali per le imprese, a cui hanno partecipato 540 giovan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794-5A6C-435A-9C3E-CCD8695E8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276640"/>
          <a:ext cx="77058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7058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176-D8C2-4F58-84AA-DA91C723D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26920" y="2349360"/>
          <a:ext cx="770580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70580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BA5-8488-4D6D-929E-B33BF6FEB1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0920" y="2924280"/>
          <a:ext cx="469584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24280"/>
                    <a:ext cx="46958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7A3-6265-47EA-8CC0-C41DE5195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92360" y="2349360"/>
          <a:ext cx="62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62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547-CB6C-4A78-BAB3-BC2463A5AB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0:57:37Z</dcterms:modified>
  <cp:revision>8</cp:revision>
  <dc:subject/>
  <dc:title>Laboratori territoriali per raccordo domanda offerta di formazione e lavoro – Fondo di perequazione 2006</dc:title>
</cp:coreProperties>
</file>